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41FD-4D2F-497B-971E-1C5E83432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9CC1-2A52-4ADB-8DA2-9F3E1451C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61A76-3348-4109-8AF3-AB5857B73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00F5-BB26-4715-8E5C-A716131D2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B505-6F04-44E3-AAA7-2A43354FA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5E7A-8336-4B6B-A320-B7337E6A28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D2311-F009-4559-86F5-A5B028CD23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50D8-5A6B-4EA7-B436-3ACB51A60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F3B8-A68A-45A9-BB29-A160E75F6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4EDD-C175-4C52-B6A1-417D807A3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CA424-7AFF-4AAB-A88E-06B60FC0A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EEAD-CFC0-4499-9FDD-F76EB6643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2BBE9-98C4-4FF3-A3F2-8F2A1CFE9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1D19-731E-49D4-9BD3-5AF344C64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2CA8-23CE-42EE-B14C-77848D160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304920" y="152280"/>
            <a:ext cx="36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2057400" y="3238560"/>
            <a:ext cx="670572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SIBLE AND / OR IN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ER RADI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EYE OR SKIN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DIRECT OR SCATTERED RAD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33"/>
          <p:cNvSpPr/>
          <p:nvPr/>
        </p:nvSpPr>
        <p:spPr>
          <a:xfrm>
            <a:off x="2525760" y="2919240"/>
            <a:ext cx="0" cy="3862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76320" y="152280"/>
            <a:ext cx="8991360" cy="2766960"/>
          </a:xfrm>
          <a:prstGeom prst="rect">
            <a:avLst/>
          </a:prstGeom>
          <a:solidFill>
            <a:srgbClr val="ffa1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76320" y="152280"/>
            <a:ext cx="8991360" cy="66294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81080" y="3738600"/>
            <a:ext cx="2260440" cy="201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2"/>
          <a:stretch/>
        </p:blipFill>
        <p:spPr>
          <a:xfrm>
            <a:off x="372960" y="892080"/>
            <a:ext cx="1322640" cy="1154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6"/>
          <p:cNvSpPr/>
          <p:nvPr/>
        </p:nvSpPr>
        <p:spPr>
          <a:xfrm>
            <a:off x="860400" y="1077840"/>
            <a:ext cx="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angla MN"/>
                <a:ea typeface="Ayuthaya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698480" y="544680"/>
            <a:ext cx="7256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93000"/>
          </a:bodyPr>
          <a:p>
            <a:pPr marL="36720" algn="ctr">
              <a:lnSpc>
                <a:spcPct val="100000"/>
              </a:lnSpc>
              <a:spcBef>
                <a:spcPts val="5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WARNING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33"/>
          <p:cNvSpPr/>
          <p:nvPr/>
        </p:nvSpPr>
        <p:spPr>
          <a:xfrm>
            <a:off x="76320" y="2919240"/>
            <a:ext cx="8991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2870280" y="5079960"/>
            <a:ext cx="3225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er Type: Nd:Y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velength: 1064 nano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Duration: 200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Energy: 75 Jo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. Average Power: 120 Wat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5765760" y="5054760"/>
            <a:ext cx="32259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er Type: Erbium Y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velength: 2940 nano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Duration: 500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Energy: 8 Jo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. Average Power: 100 Wat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5257800" y="6553080"/>
            <a:ext cx="3809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55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ASS 4 LASER CONTROLLED ARE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E. Hoopman</dc:creator>
  <dc:description/>
  <cp:keywords/>
  <dc:language>en-US</dc:language>
  <cp:lastModifiedBy>Burt Wenger</cp:lastModifiedBy>
  <cp:lastPrinted>2018-08-15T15:18:09Z</cp:lastPrinted>
  <dcterms:modified xsi:type="dcterms:W3CDTF">2018-09-11T19:45:57Z</dcterms:modified>
  <cp:revision>37</cp:revision>
  <dc:subject/>
  <dc:title>PowerPoint Presentation</dc:title>
</cp:coreProperties>
</file>